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B288-5741-4D8C-9B99-DB83875E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5053-BF0B-4DE8-8C01-17374B5F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2873-5260-4132-B4B5-EBB09A6D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CBAC-98DD-4E97-8151-78B6CF41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AA52A-A5AC-4BB3-B196-B683B304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B7D8A-08FF-47D7-B603-8D34D835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BF366-0FF5-484E-9D33-05765325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218AB-86D0-487D-B7FC-194D5D33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95EA4-BA56-49CC-BBDC-AE01FEC1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DCA36-18EE-4E42-A135-49442D99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22741-CD6E-4D52-8D7E-9440BF03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AB4A-F0E0-4C0B-A150-909F552D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85339-0184-461B-9075-66D2B401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EA897-5808-434A-B04A-BC7A81A9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2A793-8EA3-4911-8962-AC394567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738EA-312E-4EA2-8BE3-64B0DD97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4388C-3FF3-47E0-B686-4466C409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0229-4D64-4E0D-A800-1A081D48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5930-A298-4647-ACB9-EECFDC18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8F19-58E8-4E18-9F8B-EE9E6EE9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4A25-8327-4036-8C2A-4A8D2374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7D88-9D1C-4FE8-AD24-BD1921DE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2576-D9AE-4242-87A0-7989F3E1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58932-0AF0-40F3-9367-E77FE1F4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A1E5-69CA-43B7-A50F-E11369101210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845A-E630-4A9B-B26B-03F6BB254A8F}" type="slidenum">
              <a:rPr b="0" lang="ar-S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FFA7-4351-4C78-AC75-EAF80FC9B3D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6494-A7BE-4FBC-B78E-876342656DEF}" type="slidenum">
              <a:rPr b="0" lang="ar-S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I: 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actical stuff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13396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se homepage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switch.vub.ac.be/~tlenaert/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inglist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2452-valvas@elvas.vub.ac.b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book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.  Russell and P. Norvi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rtificial Intelligence: A Modern  Approac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ntice Hall, 2003,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econd  Edi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: written at end of 2nd. semester (50%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31575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BC3F-4320-4E71-AE1D-CF53EAAF68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903A2-33B7-460B-8C82-F8C008AA3A9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actical stuff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75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ercices: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assignments in Lisp (50%)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udoku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r op een rij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gic</a:t>
            </a:r>
            <a:endParaRPr b="0" lang="en-US" sz="2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25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91320" y="1523880"/>
            <a:ext cx="2368440" cy="239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961240" y="4068720"/>
            <a:ext cx="1927080" cy="19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5C3C-CA5B-4E09-B325-CC4BEE3AE7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B5372-6ED8-4358-BDF0-C286974F703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urse overview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AI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lligent agent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 solv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nowledge and reaso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certain knowledge and reaso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Lear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ommunicating, perceiving and act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B0CE1-4D16-4C2B-9141-72472B7D03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959EA-765C-45C4-AAAD-63BFDA96DE1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is AI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brief history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Verdana"/>
              </a:rPr>
              <a:t>The State of the art (see book)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sp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d its relation to Scheme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B5FF-80FF-4BCF-B0D7-7F366B2EC0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896A4-A188-42CC-9A2A-AD532B88A12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is Artificial Intelligence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ive extension of philosophy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stand and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BUIL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ntelligent entitie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igin after WWII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ghly interdisciplinary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urrently consist of huge variety of subfields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course will discuss some of them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7C318-98BE-49A7-8886-2621585B59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01939-3CFC-47C6-84AC-048C1E39BA1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is Artificial Intellig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4160" y="16002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fferent definitions due to different criteria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dimensions: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ght processes/reasoning vs. behavior/ac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 according to human standards vs. success according to an ideal concept of intelligence: rationality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4495680"/>
          <a:ext cx="7010280" cy="149868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in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like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in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ration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like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ration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4E8A-B9CF-4C3C-8001-621B202FC8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8BCC5-4C85-4B90-B360-BCB9FEDED26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ystems that </a:t>
            </a: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ac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200" spc="-1" strike="noStrike">
                <a:solidFill>
                  <a:srgbClr val="00ff00"/>
                </a:solidFill>
                <a:latin typeface="Verdana"/>
              </a:rPr>
              <a:t>like huma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4160" y="16002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does a system behave intelligently?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ring (1950)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mputing Machinery and Intelligenc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onal test of intelligence: imitation gam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 still relevant now, yet might be the wrong ques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s the collaboration of major components of AI: knowledge, reasoning, language understanding, learning, 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4648320" cy="160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FCA3-2FFB-4329-8240-FA765DD264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22BAE-0824-49EE-8545-AD074996B75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ystems that </a:t>
            </a: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ac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200" spc="-1" strike="noStrike">
                <a:solidFill>
                  <a:srgbClr val="00ff00"/>
                </a:solidFill>
                <a:latin typeface="Verdana"/>
              </a:rPr>
              <a:t>like huma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2440" y="1989000"/>
            <a:ext cx="1932120" cy="2907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181620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48360" y="2390760"/>
            <a:ext cx="296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rew Hodg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an Turing, the en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ailable at amazon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3120" y="5181480"/>
            <a:ext cx="76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with Turing test: not reproducib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e or amenable to mathematical analy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C51F-9CDA-4B02-BBCB-931B42684B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32E11-8820-438F-BF91-29A3BAEC03F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0:32:44Z</dcterms:created>
  <dc:creator>ikke dikke</dc:creator>
  <dc:description/>
  <dc:language>en-US</dc:language>
  <cp:lastModifiedBy>user</cp:lastModifiedBy>
  <cp:lastPrinted>2004-09-29T10:57:01Z</cp:lastPrinted>
  <dcterms:modified xsi:type="dcterms:W3CDTF">2008-08-03T08:00:43Z</dcterms:modified>
  <cp:revision>215</cp:revision>
  <dc:subject/>
  <dc:title>Artificial Intelligence 1</dc:title>
</cp:coreProperties>
</file>